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4F1-506F-488D-95CA-DF7F5B1B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AA5-2692-4234-B1E6-AC203A7E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575-CC39-4EFD-BAAA-9016727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C10-8934-4D5D-A2B0-0CC86B82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2C4E-75A1-4057-8C24-B8677CFA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A2F1-36DC-4578-968C-B051864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3650-8FEE-40F4-9589-BFAC303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186-0E69-4E3D-8044-3548EEA0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506C-E5E5-4F9D-91AA-FF971E2D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930-7736-4929-B4F3-FE3AE9C8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6423-96B1-4206-9BB1-61729DF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48D-7EF9-4B88-ADCD-5A229F1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F876-B5B2-45AF-BE6F-B36B753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2DF3-816B-43D8-976C-831C8DF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946-2209-41CD-A8D9-6BC300D4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67BE-550D-4D99-83F6-71261A4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2145-D12A-4B85-867B-7843909B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DB7-7B81-4AD2-8CAC-622BBA33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C39-531E-4F37-8BE1-4FA712A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F3D-C675-43EA-A98B-52904BD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678-DD05-4F42-9F21-10ED8CF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19E-30E3-41FE-A6EC-AA05DC1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0BA-9030-459B-8AAD-55E7A36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6BA-A80C-4EF5-AD63-E6E3F8AD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BAF6-AD1F-4744-9A58-36DF246450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360" y="2160360"/>
            <a:ext cx="460836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BRYŁ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3246-7687-4014-9AE7-15ABC645E6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1898640"/>
            <a:ext cx="75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BLICZANIE POLA POWIERZCHNI PROSTOPADŁOŚCIA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920" y="1314000"/>
            <a:ext cx="73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blicz pole powierzchni prostopadłościanu o wymiarach</a:t>
            </a: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 5 cm, 4 cm, 6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57360" y="1719360"/>
          <a:ext cx="3921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719360"/>
                    <a:ext cx="3921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22360" y="1763640"/>
          <a:ext cx="6191280" cy="491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2360" y="1763640"/>
                    <a:ext cx="61912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4160" y="4344840"/>
            <a:ext cx="439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stały nam następujące prostoką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I i VI o wymiarach 5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II i IV o wymiarach 6 cm i 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III i V o wymiarach 6 cm i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225440"/>
          <a:ext cx="52657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225440"/>
                    <a:ext cx="5265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JAK OBLICZYĆ POLE POWIERZCHNI PROSTOPADŁOŚCIAN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05640" y="108864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bliczamy pola prostokątó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6640" y="144756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 = 5 cm · 4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 i VI = 2 · 2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 i VI = 4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266220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P = 6 cm • 5 c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 i IV = 2 • 30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 i IV = 60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640" y="3831840"/>
            <a:ext cx="765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P = 6 cm • 4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ieważ mamy dwa prostokąty o tych samych wymiarach to wynik mnożymy przez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ścian III i V = 2 • 24 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e ścian III i V = 48 c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280" y="5712840"/>
            <a:ext cx="87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4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60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e ścian I i VI + pole ścian II i IV + pole ścian III i V = 148 cm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46280" y="509436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czamy sumę pól prostoką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6640" y="1942560"/>
            <a:ext cx="73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le powierzchni całkowitej prostopadłościanu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uma pól wszystkich ścian prostopadłościa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04292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520" y="1672200"/>
            <a:ext cx="780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licz pole powierzchni ścian bocznych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blicz pole powierzchni podstaw prostopadłościa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01:27Z</dcterms:modified>
  <cp:revision>104</cp:revision>
  <dc:subject/>
  <dc:title>Slajd 1</dc:title>
</cp:coreProperties>
</file>